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51E-1C48-4B8B-BD68-DDDCC45C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68E8-A61D-45AB-9508-C0487000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9EAA-A1D4-4757-9614-9D267B30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D6F-626E-440C-9E5F-F1A88E47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605-C812-4D0F-A302-B382C128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03E7-B7FD-46CE-ABAD-7940F081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05DD-1FD8-4B3C-AC87-3435BC5D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3AD-3899-468B-AAFF-70565614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3A2-1268-487B-8BED-6365285A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555-027D-4714-9FAB-D601AF8C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63F-A4B3-4E06-962F-9477F901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272-D428-445C-94BC-F73F40B1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2F46-04EE-43F5-8768-60EC65C80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9144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6600cc"/>
                </a:solidFill>
                <a:uFillTx/>
                <a:latin typeface="Sylfaen"/>
              </a:rPr>
              <a:t>Creativit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090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609480"/>
            <a:ext cx="640080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6600"/>
                </a:solidFill>
                <a:uFillTx/>
                <a:latin typeface="Sylfaen"/>
              </a:rPr>
              <a:t>Too Many Mistakes </a:t>
            </a:r>
            <a:br>
              <a:rPr sz="2300"/>
            </a:b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I know that I’ve made too many mistakes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To return to the life I once had with you.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I can’t regret all of the decisions I make.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Please forgive me, my regret overd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Remember all we went through together?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The toil and pain, the tears and sweat shed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Undivided by the odds, their pressures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Fighting those who said we should never b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070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838080"/>
            <a:ext cx="655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You deserve so much more than I gave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Please give me a chance, I will do better.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To once more see your eyes shine with joy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Forgive me please; free me from Guilt’s fetter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No one can ever take your place in my heart,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Sylfaen"/>
              </a:rPr>
              <a:t>All I am is yours, please don’t tear me apa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342900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867280" y="914400"/>
            <a:ext cx="270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0360" y="1446480"/>
            <a:ext cx="5443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3300"/>
                </a:solidFill>
                <a:uFillTx/>
                <a:latin typeface="Sylfaen"/>
              </a:rPr>
              <a:t>My Animal Po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Stepping lightly across the forest floor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Alert for signs of an unwanted guest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Moving slowly, gold eyes watching the trees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Shy and mistrusting of other peopl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Patiently hiding amongst the forest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Scarlet palmed hunters cannot find me here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None the wiser they quickly pass me by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Lying silently not three feet from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28098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685800"/>
            <a:ext cx="599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Standing and stepping out onto the path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Proudly and gracefully on my way home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My soft red-grey fur spiking warily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Winding my way through the darkness with eas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Home at last, with wagging tails I’m gre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Sylfaen"/>
              </a:rPr>
              <a:t>My lupine friends and I, one entity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Yearling Wolf"/>
          <p:cNvPicPr/>
          <p:nvPr/>
        </p:nvPicPr>
        <p:blipFill>
          <a:blip r:embed="rId1"/>
          <a:stretch/>
        </p:blipFill>
        <p:spPr>
          <a:xfrm>
            <a:off x="3581280" y="3048120"/>
            <a:ext cx="472464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132840" y="440640"/>
            <a:ext cx="53899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Sylfaen"/>
              </a:rPr>
              <a:t>Eyes Fill with Tea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Her eyes fill with tears lit by fading ligh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Hazel eyes now made frail by pain and fea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As she lies amid her darkening night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The alley shows signs of her recent figh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Her body broken. Her spirit shattere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Her eyes fill with tears lit by fading light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Her dark brown hair tousled, a sorry sigh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Clothes torn and dirty, she sobs in a breath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As she lies amid her darkening night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52880" y="685800"/>
            <a:ext cx="36198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762120"/>
            <a:ext cx="5105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She wonders how a man could hold such spit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Thoughts wandering through her dim memori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Her eyes fill with tears lit by fading light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She wonders how she'll live after her pligh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Now surrounded by flashing lights, dark form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As she lies amid her darkening light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Carefully men lift her toward the bright light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Distant voices tell her she'll be oka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Her eyes fill with tears lit by fading ligh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As she lies amid her darkening night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398160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7:28Z</dcterms:created>
  <dc:creator>Virginia Beach Public Schools</dc:creator>
  <dc:description/>
  <dc:language>en-US</dc:language>
  <cp:lastModifiedBy> </cp:lastModifiedBy>
  <dcterms:modified xsi:type="dcterms:W3CDTF">2008-06-10T05:53:35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ass">
    <vt:lpwstr/>
  </property>
  <property fmtid="{D5CDD505-2E9C-101B-9397-08002B2CF9AE}" pid="3" name="Due Date">
    <vt:lpwstr/>
  </property>
  <property fmtid="{D5CDD505-2E9C-101B-9397-08002B2CF9AE}" pid="4" name="Teacher">
    <vt:lpwstr/>
  </property>
</Properties>
</file>